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BE9-1FBD-4AED-9086-2DD9C5D9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9DC5-3A12-40E5-8BE0-02AB6E03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0D60-A228-4232-BCC7-BDF75667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E617-2003-4446-856E-2CE5AEC9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D4C4-5B34-4F03-8908-99B8CD2C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B1A-4679-4D97-B3AB-84621304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69D-7105-4857-8E36-B5BF862B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E38-2DB5-4DCC-9019-C893B148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94E4-A041-4DC9-9D8E-49A979C0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35E-E946-410A-938B-885C7930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66A1-A8FA-4F97-81AB-3540C120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42F-686F-4BE4-AB62-5EE98582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04E2-F734-4405-BEE0-4EC1DB96B0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senske.wikispac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907920" y="-285840"/>
            <a:ext cx="7328160" cy="5095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04920" y="472284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lease come up to the front and get a fact sheet, then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lease find your seat (name on sticky note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4"/>
          <p:cNvSpPr/>
          <p:nvPr/>
        </p:nvSpPr>
        <p:spPr>
          <a:xfrm>
            <a:off x="838080" y="8380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inal Exam = 3 pa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838080" y="1523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C exam, PA1, PA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Rectangle 6" descr=""/>
          <p:cNvPicPr/>
          <p:nvPr/>
        </p:nvPicPr>
        <p:blipFill>
          <a:blip r:embed="rId1"/>
          <a:stretch/>
        </p:blipFill>
        <p:spPr>
          <a:xfrm>
            <a:off x="-133200" y="6480"/>
            <a:ext cx="9496440" cy="9144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838080" y="2209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As in class, MC on Exam days (late Jan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838080" y="2859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As = 15%, MC = 70% of Final Exam gra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Rectangle 13" descr=""/>
          <p:cNvPicPr/>
          <p:nvPr/>
        </p:nvPicPr>
        <p:blipFill>
          <a:blip r:embed="rId2"/>
          <a:stretch/>
        </p:blipFill>
        <p:spPr>
          <a:xfrm>
            <a:off x="1359000" y="3468600"/>
            <a:ext cx="6205320" cy="1116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4"/>
          <p:cNvSpPr/>
          <p:nvPr/>
        </p:nvSpPr>
        <p:spPr>
          <a:xfrm>
            <a:off x="1828800" y="4495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P1 = 40%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15"/>
          <p:cNvSpPr/>
          <p:nvPr/>
        </p:nvSpPr>
        <p:spPr>
          <a:xfrm>
            <a:off x="1828800" y="51814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P2 = 4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16"/>
          <p:cNvSpPr/>
          <p:nvPr/>
        </p:nvSpPr>
        <p:spPr>
          <a:xfrm>
            <a:off x="1828800" y="5830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inal Exam (MC &amp; PA) = 2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8" descr=""/>
          <p:cNvPicPr/>
          <p:nvPr/>
        </p:nvPicPr>
        <p:blipFill>
          <a:blip r:embed="rId1"/>
          <a:stretch/>
        </p:blipFill>
        <p:spPr>
          <a:xfrm>
            <a:off x="2487600" y="500040"/>
            <a:ext cx="4046400" cy="1116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0"/>
          <p:cNvSpPr/>
          <p:nvPr/>
        </p:nvSpPr>
        <p:spPr>
          <a:xfrm>
            <a:off x="304920" y="16477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* Please write this down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enske.wikispaces.com</a:t>
            </a:r>
            <a:r>
              <a:rPr b="0" lang="en-US" sz="48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3" descr=""/>
          <p:cNvPicPr/>
          <p:nvPr/>
        </p:nvPicPr>
        <p:blipFill>
          <a:blip r:embed="rId1"/>
          <a:stretch/>
        </p:blipFill>
        <p:spPr>
          <a:xfrm>
            <a:off x="907920" y="-60480"/>
            <a:ext cx="7328160" cy="1140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609480" y="1143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ew up in Philly and N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609480" y="18684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Went to Virginia Tech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LOVE college football!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09480" y="3925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njoy running and s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609480" y="4611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ach XC, Winter Track, Spring Tr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609480" y="5297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Teach AP Stat and Applied M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609480" y="26100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uated with degree in Math, minors in Spanish and Stat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09480" y="59072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year with C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907920" y="-139680"/>
            <a:ext cx="7328160" cy="114624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609480" y="1143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ew up in Sheridan, Indiana.  Small town with NO stopligh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609480" y="24382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Went to Indiana State University, had class with Larry Bird’s daugh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609480" y="45720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Teaches Biology and Study Ski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60948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oves the Indianapolis Colts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09480" y="37339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Has worked at South for the last 4 ye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2" descr=""/>
          <p:cNvPicPr/>
          <p:nvPr/>
        </p:nvPicPr>
        <p:blipFill>
          <a:blip r:embed="rId1"/>
          <a:stretch/>
        </p:blipFill>
        <p:spPr>
          <a:xfrm>
            <a:off x="165240" y="-208080"/>
            <a:ext cx="8723160" cy="132408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609480" y="1163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“Real World” m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609480" y="1773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“Business” m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609480" y="2535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repare you for the kind of math that you will do in your everyday l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609480" y="3906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“When will I ever use this stuff?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VERYDA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609480" y="5068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Need this to graduat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4"/>
          <p:cNvSpPr/>
          <p:nvPr/>
        </p:nvSpPr>
        <p:spPr>
          <a:xfrm>
            <a:off x="2057400" y="1298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In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2057400" y="1905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hecking and Savings Accou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Rectangle 6" descr=""/>
          <p:cNvPicPr/>
          <p:nvPr/>
        </p:nvPicPr>
        <p:blipFill>
          <a:blip r:embed="rId1"/>
          <a:stretch/>
        </p:blipFill>
        <p:spPr>
          <a:xfrm>
            <a:off x="30240" y="165240"/>
            <a:ext cx="8974080" cy="987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2057400" y="24782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redit Ca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2057400" y="3048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uying a c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2057400" y="36212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uying a ho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2057400" y="423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oans and Mortg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2057400" y="4840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Insur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2057400" y="54500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Invest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4"/>
          <p:cNvSpPr/>
          <p:nvPr/>
        </p:nvSpPr>
        <p:spPr>
          <a:xfrm>
            <a:off x="1447920" y="8380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3 ring binder (lots of handouts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1447920" y="1523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ook (will keep in clas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Rectangle 6" descr=""/>
          <p:cNvPicPr/>
          <p:nvPr/>
        </p:nvPicPr>
        <p:blipFill>
          <a:blip r:embed="rId1"/>
          <a:stretch/>
        </p:blipFill>
        <p:spPr>
          <a:xfrm>
            <a:off x="2541600" y="-189000"/>
            <a:ext cx="3578040" cy="1116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1447920" y="22096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ALCULATOR (scientific, 4 functi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Rectangle 8" descr=""/>
          <p:cNvPicPr/>
          <p:nvPr/>
        </p:nvPicPr>
        <p:blipFill>
          <a:blip r:embed="rId2"/>
          <a:stretch/>
        </p:blipFill>
        <p:spPr>
          <a:xfrm>
            <a:off x="2554200" y="2786040"/>
            <a:ext cx="3005280" cy="1116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9"/>
          <p:cNvSpPr/>
          <p:nvPr/>
        </p:nvSpPr>
        <p:spPr>
          <a:xfrm>
            <a:off x="1447920" y="3809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xpec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1447920" y="44956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1447920" y="51814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ell ph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1447920" y="58309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Dress co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2743200" y="914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bs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2743200" y="1600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Rectangle 6" descr=""/>
          <p:cNvPicPr/>
          <p:nvPr/>
        </p:nvPicPr>
        <p:blipFill>
          <a:blip r:embed="rId1"/>
          <a:stretch/>
        </p:blipFill>
        <p:spPr>
          <a:xfrm>
            <a:off x="2548080" y="-189000"/>
            <a:ext cx="4151160" cy="1116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2743200" y="22860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u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Rectangle 8" descr=""/>
          <p:cNvPicPr/>
          <p:nvPr/>
        </p:nvPicPr>
        <p:blipFill>
          <a:blip r:embed="rId2"/>
          <a:stretch/>
        </p:blipFill>
        <p:spPr>
          <a:xfrm>
            <a:off x="2560680" y="2786040"/>
            <a:ext cx="4016160" cy="1116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2743200" y="3886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mou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2743200" y="45720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2743200" y="51814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Receiving cred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2743200" y="5830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 assign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4"/>
          <p:cNvSpPr/>
          <p:nvPr/>
        </p:nvSpPr>
        <p:spPr>
          <a:xfrm>
            <a:off x="1905120" y="838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nnounced/unannounc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1905120" y="15238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alcul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Rectangle 6" descr=""/>
          <p:cNvPicPr/>
          <p:nvPr/>
        </p:nvPicPr>
        <p:blipFill>
          <a:blip r:embed="rId1"/>
          <a:stretch/>
        </p:blipFill>
        <p:spPr>
          <a:xfrm>
            <a:off x="1768320" y="-189000"/>
            <a:ext cx="5712120" cy="1116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1905120" y="2209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Hats/sungla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Rectangle 8" descr=""/>
          <p:cNvPicPr/>
          <p:nvPr/>
        </p:nvPicPr>
        <p:blipFill>
          <a:blip r:embed="rId2"/>
          <a:stretch/>
        </p:blipFill>
        <p:spPr>
          <a:xfrm>
            <a:off x="2560680" y="3084480"/>
            <a:ext cx="3157560" cy="1116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9"/>
          <p:cNvSpPr/>
          <p:nvPr/>
        </p:nvSpPr>
        <p:spPr>
          <a:xfrm>
            <a:off x="1905120" y="4230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mount/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1905120" y="49165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1905120" y="56023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4"/>
          <p:cNvSpPr/>
          <p:nvPr/>
        </p:nvSpPr>
        <p:spPr>
          <a:xfrm>
            <a:off x="914400" y="838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# pts. Earned / # pts. possi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914400" y="1523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HW, quizzes, tests, projects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Rectangle 6" descr=""/>
          <p:cNvPicPr/>
          <p:nvPr/>
        </p:nvPicPr>
        <p:blipFill>
          <a:blip r:embed="rId1"/>
          <a:stretch/>
        </p:blipFill>
        <p:spPr>
          <a:xfrm>
            <a:off x="2968560" y="-109440"/>
            <a:ext cx="3114720" cy="1116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7"/>
          <p:cNvSpPr/>
          <p:nvPr/>
        </p:nvSpPr>
        <p:spPr>
          <a:xfrm>
            <a:off x="914400" y="2209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orderline grades (79.48%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914400" y="2859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Normal grading scal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93% = A, 90% = A-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Rectangle 13" descr=""/>
          <p:cNvPicPr/>
          <p:nvPr/>
        </p:nvPicPr>
        <p:blipFill>
          <a:blip r:embed="rId2"/>
          <a:stretch/>
        </p:blipFill>
        <p:spPr>
          <a:xfrm>
            <a:off x="2719440" y="3468600"/>
            <a:ext cx="3784680" cy="1116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4"/>
          <p:cNvSpPr/>
          <p:nvPr/>
        </p:nvSpPr>
        <p:spPr>
          <a:xfrm>
            <a:off x="2743200" y="44956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fore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2743200" y="51814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fter pract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2743200" y="5830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blo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1:19:48Z</dcterms:created>
  <dc:creator>Lauren Senske</dc:creator>
  <dc:description/>
  <dc:language>en-US</dc:language>
  <cp:lastModifiedBy>Lauren Senske</cp:lastModifiedBy>
  <dcterms:modified xsi:type="dcterms:W3CDTF">2009-01-30T19:16:01Z</dcterms:modified>
  <cp:revision>28</cp:revision>
  <dc:subject/>
  <dc:title>Slide 1</dc:title>
</cp:coreProperties>
</file>